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7874-C9B1-42A4-9893-27B277CE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3DE8-CDA5-4C12-A8CA-13E3DD23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E3B-78E3-4EA0-94AA-1B279070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5737-E967-4C8E-93DA-BDAE7D7D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F2C-2BDB-4FBC-A29A-5A19D6CC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18F-740B-473F-A0DA-944AEEAB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5E92-FE7E-4457-946D-E47B09DA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AE22-CF6D-40B0-9C74-9D232249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27CC-611E-49C8-ACBA-CE7E0949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ADC-BC90-4C4F-A7AF-B158B548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692-BC08-4E9D-BD21-5A52EF09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1199-F403-4F4D-8B17-90EB56BD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F252-E86E-46D8-AC95-88C0138114A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669636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0" spc="-1" strike="noStrike">
                <a:solidFill>
                  <a:srgbClr val="000000"/>
                </a:solidFill>
                <a:latin typeface="Book Antiqua"/>
              </a:rPr>
              <a:t>Italian</a:t>
            </a:r>
            <a:br>
              <a:rPr sz="10000"/>
            </a:br>
            <a:r>
              <a:rPr b="0" lang="de-DE" sz="10000" spc="-1" strike="noStrike">
                <a:solidFill>
                  <a:srgbClr val="000000"/>
                </a:solidFill>
                <a:latin typeface="Book Antiqua"/>
              </a:rPr>
              <a:t>cultur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italien_karte"/>
          <p:cNvPicPr/>
          <p:nvPr/>
        </p:nvPicPr>
        <p:blipFill>
          <a:blip r:embed="rId1"/>
          <a:stretch/>
        </p:blipFill>
        <p:spPr>
          <a:xfrm>
            <a:off x="5076720" y="836640"/>
            <a:ext cx="3829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ash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italien"/>
          <p:cNvPicPr/>
          <p:nvPr/>
        </p:nvPicPr>
        <p:blipFill>
          <a:blip r:embed="rId1"/>
          <a:stretch/>
        </p:blipFill>
        <p:spPr>
          <a:xfrm>
            <a:off x="6084720" y="189000"/>
            <a:ext cx="2673360" cy="15606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468360" y="476280"/>
            <a:ext cx="53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Book Antiqua"/>
              </a:rPr>
              <a:t>Italy - 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4" descr="eeh_basic_gnocchi_foto"/>
          <p:cNvPicPr/>
          <p:nvPr/>
        </p:nvPicPr>
        <p:blipFill>
          <a:blip r:embed="rId1"/>
          <a:srcRect l="18397" t="20818" r="0" b="13973"/>
          <a:stretch/>
        </p:blipFill>
        <p:spPr>
          <a:xfrm>
            <a:off x="1042920" y="4508640"/>
            <a:ext cx="2527200" cy="2030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ravioli"/>
          <p:cNvPicPr/>
          <p:nvPr/>
        </p:nvPicPr>
        <p:blipFill>
          <a:blip r:embed="rId2"/>
          <a:srcRect l="0" t="0" r="4001" b="5500"/>
          <a:stretch/>
        </p:blipFill>
        <p:spPr>
          <a:xfrm>
            <a:off x="5940360" y="4149720"/>
            <a:ext cx="3025800" cy="18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2671"/>
          <p:cNvPicPr/>
          <p:nvPr/>
        </p:nvPicPr>
        <p:blipFill>
          <a:blip r:embed="rId3"/>
          <a:stretch/>
        </p:blipFill>
        <p:spPr>
          <a:xfrm>
            <a:off x="3203640" y="2924280"/>
            <a:ext cx="3220920" cy="192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0070"/>
          <p:cNvPicPr/>
          <p:nvPr/>
        </p:nvPicPr>
        <p:blipFill>
          <a:blip r:embed="rId4"/>
          <a:stretch/>
        </p:blipFill>
        <p:spPr>
          <a:xfrm>
            <a:off x="5867280" y="1628640"/>
            <a:ext cx="2943360" cy="1758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agh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anna Co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avi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noc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266120" y="33336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Book Antiqua"/>
              </a:rPr>
              <a:t>1. Food</a:t>
            </a:r>
            <a:r>
              <a:rPr b="0" lang="de-DE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pizza-margherita"/>
          <p:cNvPicPr/>
          <p:nvPr/>
        </p:nvPicPr>
        <p:blipFill>
          <a:blip r:embed="rId5"/>
          <a:stretch/>
        </p:blipFill>
        <p:spPr>
          <a:xfrm>
            <a:off x="4067280" y="476280"/>
            <a:ext cx="20890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limoncello_01"/>
          <p:cNvPicPr/>
          <p:nvPr/>
        </p:nvPicPr>
        <p:blipFill>
          <a:blip r:embed="rId1"/>
          <a:stretch/>
        </p:blipFill>
        <p:spPr>
          <a:xfrm>
            <a:off x="611280" y="2492280"/>
            <a:ext cx="2386080" cy="4176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324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moncel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166400" y="333360"/>
            <a:ext cx="326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Book Antiqua"/>
              </a:rPr>
              <a:t>2. Beverage</a:t>
            </a:r>
            <a:r>
              <a:rPr b="0" lang="de-DE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wein"/>
          <p:cNvPicPr/>
          <p:nvPr/>
        </p:nvPicPr>
        <p:blipFill>
          <a:blip r:embed="rId2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5435640" y="191628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ell-d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nly on the beach: Bermudas, Bikini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amous labels: Prada, Etro, Versace,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230840" y="333360"/>
            <a:ext cx="285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Book Antiqua"/>
              </a:rPr>
              <a:t>3. Fashion</a:t>
            </a:r>
            <a:r>
              <a:rPr b="0" lang="de-DE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nk to you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279800" y="333360"/>
            <a:ext cx="23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Book Antiqua"/>
              </a:rPr>
              <a:t>4. Music</a:t>
            </a:r>
            <a:r>
              <a:rPr b="0" lang="de-DE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on‘t swim without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moking ban for: bars, cinemas, restaurants, offices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o queues in super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199520" y="333360"/>
            <a:ext cx="348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Book Antiqua"/>
              </a:rPr>
              <a:t>5. Behaviour</a:t>
            </a:r>
            <a:r>
              <a:rPr b="0" lang="de-DE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1:54:12Z</dcterms:created>
  <dc:creator>g.08.luibrand.corinn</dc:creator>
  <dc:description/>
  <dc:language>en-US</dc:language>
  <cp:lastModifiedBy>Sonja</cp:lastModifiedBy>
  <dcterms:modified xsi:type="dcterms:W3CDTF">2010-03-07T16:52:53Z</dcterms:modified>
  <cp:revision>5</cp:revision>
  <dc:subject/>
  <dc:title>Italy culture</dc:title>
</cp:coreProperties>
</file>